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4.pct" ContentType="image/x-pict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10.png" ContentType="image/png"/>
  <Override PartName="/ppt/media/image13.pct" ContentType="image/x-pict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ier Award Criteria 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e the previous page for additional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ier Award Criteria 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e the previous page for additional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Premier Award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are now accepting submissions for the 1998 Premier Award Competition. Full submission information can be found at http://www.needs.org/premier/1998/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0200" y="1447920"/>
            <a:ext cx="875520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6840" y="4038120"/>
            <a:ext cx="67248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randon Muramatsu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S Project Dir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8040" y="1995480"/>
            <a:ext cx="854388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EEDS — The National Engineering Education Delivery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 and in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1800" y="5635800"/>
          <a:ext cx="12222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1800" y="563580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320" y="76320"/>
          <a:ext cx="508320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508320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sing NEEDS as the Foundation for a Test-bed SMETE Digital Library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a test-bed SMETE Digital Library using NEEDS as a found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nership with the University of California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 development of a SMETE on-line user commu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the test-bed SMETE Digital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899480" y="56260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S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igital Library Research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a controlled vocabulary for SMET edu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 this Controlled Vocabulary as metadata for organizing, indexing and retrieving educational materials stored in NEEDS (as a test-bed SMET Digital Librar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courseware in NEEDS and the Controlled Vocabulary to structure discussion among our community of lear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921800" y="5635800"/>
          <a:ext cx="12222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1800" y="563580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899480" y="56260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mier Award for Excellence in Engineering Education Coursewa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Create the Premier Awar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 NEEDS as a source of quality learning materi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recognition to developers for time and intellectu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324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324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17452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hat is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emier Award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ational competition to identify and reward the authors of high-quality, non-commercial courseware designed to enhance engineering edu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Premier Awar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is about the entire experience of using the courseware by learners, not just the courseware itse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issemination system to distribute the Premier Courseware (via CD’s, ASEE Prism ads, presentations at FIE and ASE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ow do we Decide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emier Award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rigorous, on-site 2-day review process with 6-10 jud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content expe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ctional design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 the Premier Award Crite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emier Award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Criteria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360" y="179820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al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students learn from the courseware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Desig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well designed and usab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ering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content error fre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5791320"/>
            <a:ext cx="4368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recognize that all the categories are interwo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00" y="1447920"/>
            <a:ext cx="89125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817956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705720" y="1676520"/>
            <a:ext cx="2209680" cy="1523880"/>
            <a:chOff x="6705720" y="1676520"/>
            <a:chExt cx="2209680" cy="1523880"/>
          </a:xfrm>
        </p:grpSpPr>
        <p:sp>
          <p:nvSpPr>
            <p:cNvPr id="144" name=""/>
            <p:cNvSpPr/>
            <p:nvPr/>
          </p:nvSpPr>
          <p:spPr>
            <a:xfrm>
              <a:off x="6705720" y="1676520"/>
              <a:ext cx="22096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7694640" y="1752480"/>
            <a:ext cx="1216080" cy="144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4640" y="1752480"/>
                      <a:ext cx="12160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6746760" y="1828800"/>
              <a:ext cx="9493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valuation Criteri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al Desig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gnition/conceptual 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media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ctional use/adaptab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Desig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nterface and navig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rel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" y="1447920"/>
            <a:ext cx="90169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05720" y="1676520"/>
            <a:ext cx="2209680" cy="1523880"/>
            <a:chOff x="6705720" y="1676520"/>
            <a:chExt cx="2209680" cy="1523880"/>
          </a:xfrm>
        </p:grpSpPr>
        <p:sp>
          <p:nvSpPr>
            <p:cNvPr id="152" name=""/>
            <p:cNvSpPr/>
            <p:nvPr/>
          </p:nvSpPr>
          <p:spPr>
            <a:xfrm>
              <a:off x="6705720" y="1676520"/>
              <a:ext cx="22096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7694640" y="1752480"/>
            <a:ext cx="1216080" cy="14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4640" y="1752480"/>
                      <a:ext cx="12160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6746760" y="1828800"/>
              <a:ext cx="9493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valuation Criteria, cont.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ering Conten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uracy of 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ation of 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stency with learning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" y="1447920"/>
            <a:ext cx="90169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705720" y="1676520"/>
            <a:ext cx="2209680" cy="1523880"/>
            <a:chOff x="6705720" y="1676520"/>
            <a:chExt cx="2209680" cy="1523880"/>
          </a:xfrm>
        </p:grpSpPr>
        <p:sp>
          <p:nvSpPr>
            <p:cNvPr id="160" name=""/>
            <p:cNvSpPr/>
            <p:nvPr/>
          </p:nvSpPr>
          <p:spPr>
            <a:xfrm>
              <a:off x="6705720" y="1676520"/>
              <a:ext cx="22096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694640" y="1752480"/>
            <a:ext cx="1216080" cy="14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4640" y="1752480"/>
                      <a:ext cx="12160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6746760" y="1828800"/>
              <a:ext cx="9493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mier Courseware of 1998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la Steam Pl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P. K. Raju and Chetan Sank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 Auburn Univer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Soli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Timothy Philpot at Murray State Univer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-UN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bert M. Henry at the University of New Hampshi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638680"/>
            <a:ext cx="2286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000 CD-R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00" y="1447920"/>
            <a:ext cx="89125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817956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311940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1120" y="5715000"/>
            <a:ext cx="45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e http://www.needs.org/premier/1997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or more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mier Courseware of 1997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tual Disk Driv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St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ill Dissection 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Bicycle Dis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Navig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572000"/>
            <a:ext cx="6324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Distribution - 3000 CD-R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 Copies to Aut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50 Copies to FIE `97 Particip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0 Copies to Engineering De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 Copies to ASEE `98 Particip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 Copies to ICEE `98 Particip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 Copies to FIE `98 Particip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00" y="1447920"/>
            <a:ext cx="89125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5000" y="3597120"/>
            <a:ext cx="4044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ttp://www.needs.org/premier/1997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or more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17956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562720" y="1752480"/>
            <a:ext cx="3200400" cy="1800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48320" y="4800600"/>
            <a:ext cx="31194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S — Expanding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mier A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5257800"/>
            <a:ext cx="3054240" cy="133992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999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emier Award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Competi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it by Friday, July 30, 1999 to be eligible for the 1999 Premier Award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presented at FIE 1999, San Juan, Puerto R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" y="1447920"/>
            <a:ext cx="90169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3960" y="5486400"/>
            <a:ext cx="2587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Visit us in Bo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06 at ASEE 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92324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324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817452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95680" y="5181480"/>
            <a:ext cx="2209680" cy="1523880"/>
            <a:chOff x="4495680" y="5181480"/>
            <a:chExt cx="2209680" cy="1523880"/>
          </a:xfrm>
        </p:grpSpPr>
        <p:sp>
          <p:nvSpPr>
            <p:cNvPr id="192" name=""/>
            <p:cNvSpPr/>
            <p:nvPr/>
          </p:nvSpPr>
          <p:spPr>
            <a:xfrm>
              <a:off x="4495680" y="5181480"/>
              <a:ext cx="22096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5484600" y="5257440"/>
            <a:ext cx="1216080" cy="144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4600" y="5257440"/>
                      <a:ext cx="12160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4536720" y="5333760"/>
              <a:ext cx="94932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2201760" y="4495680"/>
            <a:ext cx="66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e http://www.needs.org/premier/1999/ for more 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randon Muramats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S Project Dire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ra@needs.or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115 Etcheverry Hal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versity of Californi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rkeley, CA 94720-175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510) 643-1817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916760" y="5635800"/>
          <a:ext cx="122256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16760" y="5635800"/>
                    <a:ext cx="122256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078200" y="6172200"/>
            <a:ext cx="64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http://www.needs.org/needsinfo/presentations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is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velop a global digital library and community of learners in Science, Mathematics, Engineering and Technology Education (SMETE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2160" y="4268880"/>
            <a:ext cx="67024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do this we build upon our experience with NEEDS — the National Engineering Education Delivery System — as the foundation for the SMETE Digital Library coupled with on-going re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920000" y="5630760"/>
          <a:ext cx="122256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0" y="5630760"/>
                    <a:ext cx="122256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8120" y="1828800"/>
          <a:ext cx="259380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828800"/>
                    <a:ext cx="259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chieving our Vis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1320" y="5003640"/>
            <a:ext cx="158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640" y="4113360"/>
            <a:ext cx="3177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New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5560" y="3579840"/>
            <a:ext cx="2129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h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240" y="2360520"/>
            <a:ext cx="205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Library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76640" y="1449360"/>
            <a:ext cx="29138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M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405240" y="3706920"/>
            <a:ext cx="352440" cy="885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157720" y="3553920"/>
            <a:ext cx="1114560" cy="428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2280" y="3022560"/>
            <a:ext cx="885960" cy="276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4011120"/>
            <a:ext cx="0" cy="8859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6360" y="5640480"/>
            <a:ext cx="73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velop a global digital library and community of learners in Science, Mathematics, Engineering and Technology Education (SME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6080" y="1871640"/>
            <a:ext cx="1674720" cy="5666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920000" y="5630760"/>
          <a:ext cx="1222560" cy="12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0" y="5630760"/>
                    <a:ext cx="122256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 flipV="1">
            <a:off x="4724280" y="1841040"/>
            <a:ext cx="1675080" cy="567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81480" y="3533400"/>
            <a:ext cx="1114560" cy="428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673520" y="3990600"/>
            <a:ext cx="0" cy="88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32240" y="3699000"/>
            <a:ext cx="352440" cy="885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7080" y="2997360"/>
            <a:ext cx="885600" cy="276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EED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stablished Dissemination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program developed within the Engineering Coalitions Program (1990-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ware readily searchable and acce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ing to include Science, Mathematics, Engineering and Technology Education (SME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d Quality Review Pro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eria for evaluating course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Premier Award for Excellence in Engineering Education Course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user-based review mechan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380880"/>
          <a:ext cx="35812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35812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923240" y="5641920"/>
          <a:ext cx="121608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324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174520" y="57150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EED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8000"/>
          </a:solidFill>
          <a:ln cap="rnd" w="25560">
            <a:solidFill>
              <a:srgbClr val="0e0b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35920" y="2155680"/>
            <a:ext cx="1148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0040" y="209556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28400" y="2538360"/>
            <a:ext cx="1531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8534520" cy="18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o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vide a service to th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gineering education commun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w and evolve NEEDS as the found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 an on-line engineering education commun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pand courseware review and evaluation effor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e as a bridge to the development of 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MET Digital National Librar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6320" y="76320"/>
          <a:ext cx="508320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508320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034840" y="571500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NEEDS: A Multimedia Digital </a:t>
            </a:r>
            <a:br>
              <a:rPr sz="1400"/>
            </a:b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Library of Courseware</a:t>
            </a:r>
            <a:br>
              <a:rPr sz="1400"/>
            </a:b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1662120"/>
            <a:ext cx="3886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Multimedia Digital Library: Catalog, search, browse, download and review courseware &amp; multimedia el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746360"/>
            <a:ext cx="4343400" cy="22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82680" y="3422520"/>
            <a:ext cx="5513400" cy="39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3520" y="380880"/>
          <a:ext cx="358128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80880"/>
                    <a:ext cx="35812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panding NEEDS Services to develop the Foundation for an On-line Community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and Autho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reviews of course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-provided links to related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-line discu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option/Adaptation Usage statistics for the auth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S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ed Usage 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Registration and Prof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00" y="1447920"/>
            <a:ext cx="89125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034840" y="571500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32f"/>
            </a:gs>
            <a:gs pos="100000">
              <a:srgbClr val="0e0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200" y="1447920"/>
            <a:ext cx="8912520" cy="0"/>
          </a:xfrm>
          <a:prstGeom prst="line">
            <a:avLst/>
          </a:prstGeom>
          <a:ln w="50760">
            <a:solidFill>
              <a:srgbClr val="0e0b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723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Services Available from Catalog Record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72240" y="17524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fili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wa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9680" y="1689120"/>
            <a:ext cx="549900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7927920" y="5641920"/>
          <a:ext cx="1216080" cy="12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7920" y="5641920"/>
                    <a:ext cx="121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8034840" y="571500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ndon</cp:lastModifiedBy>
  <cp:lastPrinted>1999-02-16T20:15:14Z</cp:lastPrinted>
  <dcterms:modified xsi:type="dcterms:W3CDTF">1999-02-19T17:14:54Z</dcterms:modified>
  <cp:revision>26</cp:revision>
  <dc:subject/>
  <dc:title>Brandon Muramatsu NEEDS Project Manager </dc:title>
</cp:coreProperties>
</file>